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3DB2-96B8-4C22-96E7-A09F617E6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080A-5DB7-44BF-BA50-9363718D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2EA2-66A2-4173-B675-ED0AD091A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427A-4C31-491A-8D13-52A35A873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7420-C0F1-4063-9AC7-2A770D047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2748-8E2A-4C44-90D8-48106F11E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B526-1E3C-4D23-B99F-C3504469F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1E33-3D99-40A6-84FE-5CB58E1E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45C5-D503-413C-8111-3016046AC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BB4-EE84-48C9-A6F0-1A2DBDA9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A4F-A54D-4ABF-AD05-752813ED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5DB-2805-41CC-BAB6-D859D86C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834-5213-4D03-8A48-323356BD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8D01-DF3D-4B67-B3CF-3BA84098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41C1-DA7E-469B-B86D-9AFDAA2A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0E3-AC31-459E-8CC8-8057F8AC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09A5-CF63-4FF8-9F8E-0C026D8E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CA14-B5FF-4790-8429-DB9C727A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F90A-C382-4394-B72D-C2BDE9F0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9B41-CF6F-4472-8EA0-EE7C27E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2F9-7FF7-4D9A-ABA3-EEA15C50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AAFB-9233-4B28-B458-F6F4E2E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9869-D5D6-4665-BD5F-C2AB225A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C067-289A-4EFB-86B7-DFEBF170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3559-AFAE-4633-A47E-8063B840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3A31-A4AE-4CD5-93D1-C881B678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08B-216A-49DD-865E-EC6C1A0D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EC5-4FA6-4ACC-A623-0D2ACE2F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A2C-CEC2-4197-909E-51A8C978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D41-2DCD-4C69-A34B-234DAE59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09C-E513-4D26-8DD2-7FEE7BD2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AEE-5016-4A6A-9351-7D3D72BA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015-1AAE-4776-9C28-551B3D3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D63F-3F5C-4864-9A0E-87C8FE540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4271-3D55-430F-8EBD-525FCC8DE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523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4720" y="3352320"/>
            <a:ext cx="5408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elix A. K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137160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1960" y="2437920"/>
            <a:ext cx="5715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is moving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can come from different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, S, E, W, NE, NW, SW,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re hurricanes, tornados, gales, bree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can we do with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2320" y="2895120"/>
            <a:ext cx="53337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 a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l a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electr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5998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the wind for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800" y="3048120"/>
            <a:ext cx="6324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if I had a windmill in my backyard…how could I use it for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37124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could mak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d-powered elev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28520" y="2552400"/>
            <a:ext cx="20624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windmill"/>
          <p:cNvPicPr/>
          <p:nvPr/>
        </p:nvPicPr>
        <p:blipFill>
          <a:blip r:embed="rId1"/>
          <a:stretch/>
        </p:blipFill>
        <p:spPr>
          <a:xfrm>
            <a:off x="228600" y="304812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an"/>
          <p:cNvPicPr/>
          <p:nvPr/>
        </p:nvPicPr>
        <p:blipFill>
          <a:blip r:embed="rId2"/>
          <a:stretch/>
        </p:blipFill>
        <p:spPr>
          <a:xfrm>
            <a:off x="2362320" y="300996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elevator_lego"/>
          <p:cNvPicPr/>
          <p:nvPr/>
        </p:nvPicPr>
        <p:blipFill>
          <a:blip r:embed="rId3"/>
          <a:stretch/>
        </p:blipFill>
        <p:spPr>
          <a:xfrm>
            <a:off x="6629400" y="3048120"/>
            <a:ext cx="2031840" cy="30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elevator_paper"/>
          <p:cNvPicPr/>
          <p:nvPr/>
        </p:nvPicPr>
        <p:blipFill>
          <a:blip r:embed="rId4"/>
          <a:stretch/>
        </p:blipFill>
        <p:spPr>
          <a:xfrm>
            <a:off x="4495680" y="3048120"/>
            <a:ext cx="2032200" cy="3047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457200" y="6035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90920" y="60357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724280" y="603576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010280" y="603576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o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deo demonstra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2840" y="609552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UNP0028.AVI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SUNP0030.AVI" descr=""/>
          <p:cNvPicPr/>
          <p:nvPr/>
        </p:nvPicPr>
        <p:blipFill>
          <a:blip r:embed="rId2"/>
          <a:stretch/>
        </p:blipFill>
        <p:spPr>
          <a:xfrm>
            <a:off x="3987720" y="2133720"/>
            <a:ext cx="507996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0"/>
          <p:cNvSpPr/>
          <p:nvPr/>
        </p:nvSpPr>
        <p:spPr>
          <a:xfrm>
            <a:off x="1371600" y="4952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5943600" y="5791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5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95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22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5120" y="1294920"/>
            <a:ext cx="5790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deo demonstra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66880" y="62481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219320" y="5181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UNP0036.AVI" descr=""/>
          <p:cNvPicPr/>
          <p:nvPr/>
        </p:nvPicPr>
        <p:blipFill>
          <a:blip r:embed="rId1"/>
          <a:stretch/>
        </p:blipFill>
        <p:spPr>
          <a:xfrm>
            <a:off x="0" y="209556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17" name="SUNP0037.AVI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5943600" y="5943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698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984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6227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9320" y="15235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did the Lego elevator not go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0" y="297144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was too 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strong wind to power heavy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05:40Z</dcterms:created>
  <dc:creator>Anon ymous</dc:creator>
  <dc:description/>
  <dc:language>en-US</dc:language>
  <cp:lastModifiedBy>gross2</cp:lastModifiedBy>
  <dcterms:modified xsi:type="dcterms:W3CDTF">2012-03-15T23:02:47Z</dcterms:modified>
  <cp:revision>28</cp:revision>
  <dc:subject/>
  <dc:title>Wind </dc:title>
</cp:coreProperties>
</file>